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A69-C8D2-4013-B3FC-2F96EED4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A18-991B-41F6-883F-E940650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2C0-95C1-41FB-A570-B8435BCC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188-2964-46FD-A5B0-93548EFB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C82-4D05-4EAC-969E-CC2F9EA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018-FA88-489E-9CC1-C3797B8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872-E253-4086-A003-037676A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225-FE39-4C63-BDA5-D6722808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E09-A95A-4B26-821C-2BBC055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FDA-1423-4072-BFDC-1263333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5E0-CB88-4B7C-B6C0-D2CF5D6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FCF-C53E-4BE1-AA42-11E35C3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F248-DF56-403E-8CDB-F5952205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962840" cy="120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407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475240" cy="39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1814400"/>
            <a:ext cx="8305920" cy="421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5105520"/>
            <a:ext cx="990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88920"/>
            <a:ext cx="9067680" cy="434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3962520"/>
            <a:ext cx="5331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396252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290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281952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7432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8195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30:42Z</dcterms:created>
  <dc:creator>Graham</dc:creator>
  <dc:description/>
  <dc:language>en-US</dc:language>
  <cp:lastModifiedBy>Graham</cp:lastModifiedBy>
  <dcterms:modified xsi:type="dcterms:W3CDTF">2012-08-08T12:19:41Z</dcterms:modified>
  <cp:revision>2</cp:revision>
  <dc:subject/>
  <dc:title>Slide 1</dc:title>
</cp:coreProperties>
</file>